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6E6BC-BC17-45AC-ABEA-A6D36291E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6D05A-7D61-4405-A2A6-3892D6BA2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FD693-1C68-49EF-9460-B8834ECED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C4613-6FA9-493C-B7B0-6F6046F89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22388-AE2D-445B-A065-5219A1CDA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77910-84B9-412D-A3E8-2D7C9D4CC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BE678-747F-4075-AC68-339008755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F5FE4-50C3-40F9-9836-5AEE0F36B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4B924-F4E8-4A30-8BE9-9856B468F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D9CB6-C5A3-498B-9D52-F0D2D81B1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92AE2-C573-440E-B662-1BDF09D5F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32680-A54C-4ED5-8B97-79DD128D6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91B39-2D51-4289-B1BB-97C39A75DFD1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flowChartPrepa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p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flowChartManualIn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flowChartManualOpe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flowChartOffpage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ff-page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flowChartPunchedCar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lowChartPunched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unched 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umming J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flowChar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flowChartCollat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l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Alternat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flowChartSor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flowChartExtra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Ex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flowChartMer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e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tore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prstGeom prst="flowChartMagnetic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equential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gnetic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rect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defined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flowChartInternal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Internal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ulti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Termin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03:09Z</dcterms:created>
  <dc:creator>tb121644</dc:creator>
  <dc:description/>
  <dc:language>en-US</dc:language>
  <cp:lastModifiedBy>tb121644</cp:lastModifiedBy>
  <dcterms:modified xsi:type="dcterms:W3CDTF">2005-05-25T11:15:34Z</dcterms:modified>
  <cp:revision>2</cp:revision>
  <dc:subject/>
  <dc:title>Slide 1</dc:title>
</cp:coreProperties>
</file>