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90BFFC-D7DF-4141-9D3F-3665D1E14A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EEBED4-9F62-4DA3-BBA7-A6E157A8C1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84970A-4416-4EF7-86D9-7A4B66B7C9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FF4F74-0334-4717-9F5C-33E119C326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AE0C78-C6BD-44F1-9663-296E30378F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E54E9F-EC9B-441A-BFD4-C3A91414B0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58652E-9180-4BC6-9769-4B74BF5D0B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356815-A4D7-4431-9991-A6ADE6FFF8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CB449F-F6D1-405C-8A2D-EE2384B3CC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14CEC0-CD9C-4DC5-97B3-60EA99E928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63C5FD-D052-4FA1-917D-E822EB8C17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DD2BD2-500C-4134-80DF-D6D386B510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7328F-8E4E-407B-8F85-4D667749A926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5f5f5f"/>
                </a:solidFill>
                <a:latin typeface="Century Gothic"/>
              </a:rPr>
              <a:t>Click to edit the outline text format</a:t>
            </a: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  <a:p>
            <a:pPr lvl="1" marL="457200" indent="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198108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5400"/>
            </a:br>
            <a:r>
              <a:rPr b="1" i="1" lang="en-US" sz="5400" spc="-1" strike="noStrike">
                <a:solidFill>
                  <a:srgbClr val="990000"/>
                </a:solidFill>
                <a:latin typeface="Century Gothic"/>
                <a:ea typeface="ＭＳ Ｐゴシック"/>
              </a:rPr>
              <a:t>	</a:t>
            </a: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4191120"/>
            <a:ext cx="4267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209680" y="52704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2704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657600" y="5334120"/>
            <a:ext cx="1752480" cy="76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5715000" y="5334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334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4343400" y="4191120"/>
            <a:ext cx="4267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ndy Clement, George Har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 La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6477120" y="533520"/>
            <a:ext cx="2133360" cy="173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F813C7-9050-4314-8790-AE95E3D16B61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ngineering challenge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ight integration with the J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s expect advanced feat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ger par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 Java model is not inherently exte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A38042-12BC-444B-B2DE-4B485E43CD5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ancaster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ge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 outline upd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e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u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and run to break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ABD055-CC1A-49AE-B7E3-5800FD3FF8E2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3. new crosscutting views</a:t>
            </a:r>
            <a:endParaRPr b="1" i="1" lang="en-US" sz="36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istening to user feedback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orking with larg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effects of crosscutting can be un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sition of advice can be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ory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I design page and bugzilla reports linked from 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ea typeface="ＭＳ Ｐゴシック"/>
              </a:rPr>
              <a:t>http://eclipse.org/ajd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4572000"/>
            <a:ext cx="8686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636563"/>
                </a:solidFill>
                <a:latin typeface="Arial"/>
              </a:rPr>
              <a:t>I wasn't seeing an advice being executed and the that part of code was little unfamiliar to me. So I had to perform a search to find out the subaspects. If I had the proposed feature, navigating to those aspects would be so much easier. </a:t>
            </a:r>
            <a:r>
              <a:rPr b="0" lang="en-US" sz="2400" spc="-1" strike="noStrike">
                <a:solidFill>
                  <a:srgbClr val="636563"/>
                </a:solidFill>
                <a:latin typeface="Arial"/>
              </a:rPr>
              <a:t> Bugzilla report 509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8AF3BF-737C-413E-BDE2-D4A2018781AF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505320" y="2666880"/>
          <a:ext cx="5457600" cy="393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3429000" y="2612880"/>
          <a:ext cx="5541840" cy="398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41840" cy="39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6" name=""/>
          <p:cNvGrpSpPr/>
          <p:nvPr/>
        </p:nvGrpSpPr>
        <p:grpSpPr>
          <a:xfrm>
            <a:off x="660240" y="1596960"/>
            <a:ext cx="7315200" cy="790560"/>
            <a:chOff x="660240" y="1596960"/>
            <a:chExt cx="7315200" cy="790560"/>
          </a:xfrm>
        </p:grpSpPr>
        <p:sp>
          <p:nvSpPr>
            <p:cNvPr id="157" name=""/>
            <p:cNvSpPr/>
            <p:nvPr/>
          </p:nvSpPr>
          <p:spPr>
            <a:xfrm>
              <a:off x="660240" y="193032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69720" y="159696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will the advice app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18E214-0C7A-45D3-940A-86556E151462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60240" y="1574640"/>
            <a:ext cx="7315200" cy="790560"/>
            <a:chOff x="660240" y="1574640"/>
            <a:chExt cx="7315200" cy="790560"/>
          </a:xfrm>
        </p:grpSpPr>
        <p:sp>
          <p:nvSpPr>
            <p:cNvPr id="163" name=""/>
            <p:cNvSpPr/>
            <p:nvPr/>
          </p:nvSpPr>
          <p:spPr>
            <a:xfrm>
              <a:off x="660240" y="190800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69720" y="157464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as graph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Eclipse call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505320" y="2666880"/>
          <a:ext cx="5457600" cy="39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3429000" y="2612880"/>
          <a:ext cx="5533920" cy="398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33920" cy="39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D84DAD-50F6-4F30-9FDF-C3425EE25E61}" type="slidenum">
              <a:t>15</a:t>
            </a:fld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ultiple advice at same join poin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my system has many aspec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their order of execution is relev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declar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precedenc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Debug, Coordinat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7696440" cy="37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B39F6C-204F-4B0E-8E5F-941D4B30AAE6}" type="slidenum">
              <a:t>16</a:t>
            </a:fld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380520" y="51051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structure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5791320"/>
            <a:ext cx="8610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wrap-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tensibility and contribution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sourc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APIs for IDE plugins and 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 need contribu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and views can be reu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2280" y="4041720"/>
          <a:ext cx="8763120" cy="24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041720"/>
                    <a:ext cx="8763120" cy="24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25F889-F953-4AD1-8750-D3EB0598FA1F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Erik Hilsdale, Ji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gunin, 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Andy Clement, M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sten and 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AspectJ in Action"/>
          <p:cNvPicPr/>
          <p:nvPr/>
        </p:nvPicPr>
        <p:blipFill>
          <a:blip r:embed="rId1"/>
          <a:stretch/>
        </p:blipFill>
        <p:spPr>
          <a:xfrm>
            <a:off x="6775560" y="1790640"/>
            <a:ext cx="2063520" cy="2476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095880" y="44197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719AA3-7316-44B7-B3AC-2322BA038094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34286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1. aspectj tools suite</a:t>
            </a:r>
            <a:endParaRPr b="1" i="1" lang="en-US" sz="40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04560" y="5181480"/>
            <a:ext cx="755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4419720"/>
            <a:ext cx="7619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7301C6-289E-43F4-90AB-B7B5CDA13E23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1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A72B4B-F115-41DC-A80F-DEE64DDFC824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build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78B1F9-2912-406C-9CEA-65AE8FFB0E75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etbeans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2D9022-FCF3-4484-B22F-E063DFE3A707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jbrows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CE416B-9DF9-4E66-8904-90520E45727C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mac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4843B6-C478-4194-85C8-6C51D9BD734C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lipse (up to 3.0m4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805695-6380-44B7-87BA-7D3D019A7346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2. next generation ajd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03-25T15:08:41Z</dcterms:modified>
  <cp:revision>500</cp:revision>
  <dc:subject/>
  <dc:title>Aspect-Oriented Programming with AspectJ</dc:title>
</cp:coreProperties>
</file>